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0.wmf" ContentType="image/x-wmf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B24-8260-46F4-90A6-5ED6902F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879-D63D-4318-A1F4-54A3647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4E2-A421-4DA5-9C93-AAD1A5E4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6C6-BAB2-4078-AD61-DC3B2192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07B1-DBEA-42A2-AFCE-90A0C864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CB75-0669-4A72-A881-F8490E2E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F793-BFA4-4915-899D-E3260CCF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94BB-1C59-408C-BE26-8896D8A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DFC5-F88F-496F-BE94-0BDDAD9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3F89-3ED6-4AD4-8926-FE1BAC5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C65E-63A6-466A-8399-3D04ED3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41D-0DA0-4EC3-A5FE-FE7BDB9E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3BC4-1131-4D8A-B299-CF4B9BE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7364-895A-4B3D-8BD7-6148780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0B67-5357-4880-8353-0FF7648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3B0-EB3E-434A-A6BC-0B27DAB4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A60E-1AF3-4CF3-ABF3-04D5D745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027A-FE01-4EDD-A389-322F16D5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B0FD-4D80-4060-82D8-751A51ED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DE34-EF63-474A-95B8-2088C23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8BFA-EBDA-4F02-8376-7F43C076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EC46-B9F0-4B43-8374-0B57F55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09F-8075-401D-B5C3-0211803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6F0E-9255-4B4D-8E71-DFE66AC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0BA3-F435-488A-AD6E-0D9B525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3966-528E-42FB-ADCD-4DEE2A4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D5DE-98C2-47AB-8442-A680DCF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8248-1BD0-46F4-8392-3ECC9ED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C1F3-9A75-461F-B0CB-A7787991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03D4-7BAA-41BD-8024-086A9ED5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9667-1830-4FFD-992B-E607A991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1FA7-2528-4EDC-95AE-CEF6951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D8A3-916C-4535-8639-C2FE6DB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AC3-4761-4429-95F3-35670A5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D229-E3C2-4842-872E-6528877D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559F-BBBE-4E58-848F-997DA435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6EF2-58FB-488E-BCC1-F61DA20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5C05-5589-4986-9B47-2076340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FE15-4E6B-4378-98ED-392EA73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A841-B2BD-4863-B842-5F55E05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1BFE-C087-413E-B9FC-5E01D6B1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E31F-B38B-427A-9880-6D7B1E03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5540-8759-495E-8AF3-9645C513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2D8F-1DA3-495C-8DAB-29F82964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AF9-CA44-4042-9407-EC8BC219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CFE9-A8E5-4352-BC84-06777DE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78B1-ED22-4F72-8FD6-A9E2DE5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3574-C927-4260-AF35-7DEB5334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D429-FAED-4212-9CDA-342054E2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4ABD-69B1-413E-AAF1-FAE6F41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544DE-EED1-4904-A2F3-488780D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D62A-4358-4390-A27B-01A9639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54C6-0A41-4E76-BA1D-AF3873A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26B5-27F4-4078-B585-07AC84E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53ED1-F676-49C9-A098-66F4F34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209-6A79-41A7-AFDB-E311FB38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38A7-786B-468D-BB05-0D1F23EE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C7DD-F59D-4C3A-88EE-F11105E2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610DB-0743-4EA0-8570-B59AE223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1D51-0B96-4A5A-AA07-E98354B8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4906-F3E2-4651-887E-336F505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F1ED-B4B5-4C9B-A933-D6A4B004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284CA-F11D-4EAB-9833-C4CEEA7F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226D-60BF-4171-A4A5-5ABE247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85E2-293C-4309-AFBF-0669C27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9E6F-E59D-4D74-AE71-006694F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EB5-E5C9-492E-9B3E-76DAAE65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4449-31EF-4F9E-9742-CFFC9B7C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971AD-CF83-4B60-B5BF-7BB4AE5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AFF8-4BA4-4ADB-A120-1716692B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5AB6-48DF-47B5-92BC-5A96F9E3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2497-D96B-4AC6-B90B-D72418D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B046E-46D7-4527-826F-5D1B5DE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813C1-BB8E-4E1B-BE29-1C485423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35451-D2A1-4AC0-B1EC-1DBB17BA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370C-9A0E-4C07-A031-591D0961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D0F1-E8DC-41E4-A03B-4F2B331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9A4-00E4-478E-803D-B5BBC33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36B43-9D0B-4205-8B35-BF9DDE2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8F42D-92CF-433E-9BAA-7BADDF28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A262-001B-4FF8-B7F0-72B9D429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5CE62-BEA4-4DB1-A9E5-4DFEAC3D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754EB-2F8C-4F13-A4FF-A010EF0B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92FF9-4AB6-4BFB-8E6D-56A2F534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055B-06E4-4DC8-8B37-122749BC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2C55-3D0D-4502-9383-5DA52DF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1363F-5A3D-4F02-AC65-9D400E8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AC8C4-5E88-45FB-95C4-36A3596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CB4-A047-4363-82E8-C62C19E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200D1-5AC2-48F2-8971-DB5DA598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BA017-D5E8-4F03-8941-A7B82A6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8A9E1-E80F-4ED6-9FEC-5838564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4C574-EB54-49E8-A95E-A56B32C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FE91-8E7F-43F9-8000-72A7683C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AAA7D-B013-45AF-BDB0-0B14894E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81BA-D11A-476B-9493-C1C9EDF2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winkliges Dreiec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Gerade Verbindung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7FAF-D9E0-476D-BF18-35AA299E54DB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winkliges Dreiec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pieren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ihand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ihand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ihand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ihand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Gerade Verbindung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6C6-27F9-4402-A870-E4FB3C4080D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winkliges Dreiec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Gerade Verbindung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Eingekerbter Richtungspfeil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Eingekerbter Richtungspfeil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092A-3D4F-4704-9931-3E9DFD1AD47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winkliges Dreiec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Gerade Verbindung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ABED-DD77-471D-9D6C-9915BA31B096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4313-5187-4615-8FA5-BB506D953ADE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ihand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ihand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echtwinkliges Dreiec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winkliges Dreiec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Gerade Verbindung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0DE2-74EC-4483-9206-A91C549D0EF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EA7E-496C-4A7F-B21C-BDF2957C991D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ihand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ihand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echtwinkliges Dreiec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winkliges Dreiec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Gerade Verbindung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Eingekerbter Richtungspfeil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Eingekerbter Richtungspfeil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7FF-B42A-4E2E-985A-D3F8BE3CA3AF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22.wmf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3" descr=""/>
          <p:cNvPicPr/>
          <p:nvPr/>
        </p:nvPicPr>
        <p:blipFill>
          <a:blip r:embed="rId2"/>
          <a:stretch/>
        </p:blipFill>
        <p:spPr>
          <a:xfrm>
            <a:off x="858960" y="3067200"/>
            <a:ext cx="8547120" cy="2528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3"/>
          <a:stretch/>
        </p:blipFill>
        <p:spPr>
          <a:xfrm>
            <a:off x="963720" y="49320"/>
            <a:ext cx="3870360" cy="42544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17"/>
          <p:cNvGrpSpPr/>
          <p:nvPr/>
        </p:nvGrpSpPr>
        <p:grpSpPr>
          <a:xfrm>
            <a:off x="2357280" y="0"/>
            <a:ext cx="9529920" cy="4071960"/>
            <a:chOff x="2357280" y="0"/>
            <a:chExt cx="9529920" cy="4071960"/>
          </a:xfrm>
        </p:grpSpPr>
        <p:grpSp>
          <p:nvGrpSpPr>
            <p:cNvPr id="373" name="Gefaltete Ecke 15"/>
            <p:cNvGrpSpPr/>
            <p:nvPr/>
          </p:nvGrpSpPr>
          <p:grpSpPr>
            <a:xfrm>
              <a:off x="5638320" y="0"/>
              <a:ext cx="2797920" cy="3728160"/>
              <a:chOff x="5638320" y="0"/>
              <a:chExt cx="2797920" cy="3728160"/>
            </a:xfrm>
          </p:grpSpPr>
          <p:pic>
            <p:nvPicPr>
              <p:cNvPr id="374" name="Gefaltete Eck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701680" y="0"/>
                <a:ext cx="2673000" cy="37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 rot="10800000">
                <a:off x="5638320" y="637200"/>
                <a:ext cx="2797920" cy="30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376" name="Object 3" descr=""/>
            <p:cNvPicPr/>
            <p:nvPr/>
          </p:nvPicPr>
          <p:blipFill>
            <a:blip r:embed="rId5"/>
            <a:stretch/>
          </p:blipFill>
          <p:spPr>
            <a:xfrm>
              <a:off x="2357280" y="707760"/>
              <a:ext cx="9529920" cy="33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feld 16"/>
            <p:cNvSpPr/>
            <p:nvPr/>
          </p:nvSpPr>
          <p:spPr>
            <a:xfrm>
              <a:off x="6143400" y="133200"/>
              <a:ext cx="221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Comic Sans MS"/>
                </a:rPr>
                <a:t>Potenzgesetze</a:t>
              </a:r>
              <a:endParaRPr b="0" lang="en-US" sz="2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extfeld 13"/>
          <p:cNvSpPr/>
          <p:nvPr/>
        </p:nvSpPr>
        <p:spPr>
          <a:xfrm>
            <a:off x="285840" y="535788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funktionen und ihre Eigenschaft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Abbilden von Funktionsgraph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iagonal liegende Ecken des Rechtecks schneiden 55"/>
          <p:cNvSpPr/>
          <p:nvPr/>
        </p:nvSpPr>
        <p:spPr>
          <a:xfrm>
            <a:off x="1357200" y="3071880"/>
            <a:ext cx="7500960" cy="785880"/>
          </a:xfrm>
          <a:custGeom>
            <a:avLst/>
            <a:gdLst>
              <a:gd name="textAreaLeft" fmla="*/ 65160 w 7500960"/>
              <a:gd name="textAreaRight" fmla="*/ 7435800 w 7500960"/>
              <a:gd name="textAreaTop" fmla="*/ 65520 h 785880"/>
              <a:gd name="textAreaBottom" fmla="*/ 720360 h 785880"/>
            </a:gdLst>
            <a:ahLst/>
            <a:rect l="textAreaLeft" t="textAreaTop" r="textAreaRight" b="textAreaBottom"/>
            <a:pathLst>
              <a:path w="7500990" h="785818">
                <a:moveTo>
                  <a:pt x="0" y="0"/>
                </a:moveTo>
                <a:lnTo>
                  <a:pt x="7370018" y="0"/>
                </a:lnTo>
                <a:lnTo>
                  <a:pt x="7500990" y="130972"/>
                </a:lnTo>
                <a:lnTo>
                  <a:pt x="7500990" y="785818"/>
                </a:lnTo>
                <a:lnTo>
                  <a:pt x="7500990" y="785818"/>
                </a:lnTo>
                <a:lnTo>
                  <a:pt x="130972" y="785818"/>
                </a:lnTo>
                <a:lnTo>
                  <a:pt x="0" y="654846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45000"/>
            </a:srgbClr>
          </a:solidFill>
          <a:ln w="55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feld 3"/>
          <p:cNvSpPr/>
          <p:nvPr/>
        </p:nvSpPr>
        <p:spPr>
          <a:xfrm>
            <a:off x="285840" y="5072040"/>
            <a:ext cx="514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000"/>
                </a:solidFill>
                <a:latin typeface="Comic Sans MS"/>
              </a:rPr>
              <a:t>Potenz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000"/>
                </a:solidFill>
                <a:latin typeface="Comic Sans MS"/>
              </a:rPr>
              <a:t>Zusammenhänge mit Wurzel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omic Sans MS"/>
              </a:rPr>
              <a:t>Potenzgesetz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funktionen und ihre Eigenschaft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Abbilden von Funktionsgraph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feld 4"/>
          <p:cNvSpPr/>
          <p:nvPr/>
        </p:nvSpPr>
        <p:spPr>
          <a:xfrm>
            <a:off x="428760" y="21420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Wie können Gleichungen der Form                                            gelöst werden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le 23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42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Rectangle 43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Rectangle 44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Rectangle 45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ectangle 46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53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Rectangle 54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Rectangle 55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Rectangle 57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ectangle 6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feld 66"/>
          <p:cNvSpPr/>
          <p:nvPr/>
        </p:nvSpPr>
        <p:spPr>
          <a:xfrm>
            <a:off x="1143000" y="92880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Comic Sans MS"/>
              </a:rPr>
              <a:t>Wir benötigen die n-te Wurzel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Object 63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11768040" cy="1044720"/>
          </a:xfrm>
          <a:prstGeom prst="rect">
            <a:avLst/>
          </a:prstGeom>
          <a:ln w="0">
            <a:noFill/>
          </a:ln>
        </p:spPr>
      </p:pic>
      <p:pic>
        <p:nvPicPr>
          <p:cNvPr id="412" name="Object 64" descr=""/>
          <p:cNvPicPr/>
          <p:nvPr/>
        </p:nvPicPr>
        <p:blipFill>
          <a:blip r:embed="rId3"/>
          <a:stretch/>
        </p:blipFill>
        <p:spPr>
          <a:xfrm>
            <a:off x="-1928880" y="785880"/>
            <a:ext cx="15339960" cy="8794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66" descr=""/>
          <p:cNvPicPr/>
          <p:nvPr/>
        </p:nvPicPr>
        <p:blipFill>
          <a:blip r:embed="rId4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Picture 70" descr=""/>
          <p:cNvPicPr/>
          <p:nvPr/>
        </p:nvPicPr>
        <p:blipFill>
          <a:blip r:embed="rId5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7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72" descr=""/>
          <p:cNvPicPr/>
          <p:nvPr/>
        </p:nvPicPr>
        <p:blipFill>
          <a:blip r:embed="rId6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pic>
        <p:nvPicPr>
          <p:cNvPr id="419" name="Object 86" descr=""/>
          <p:cNvPicPr/>
          <p:nvPr/>
        </p:nvPicPr>
        <p:blipFill>
          <a:blip r:embed="rId7"/>
          <a:stretch/>
        </p:blipFill>
        <p:spPr>
          <a:xfrm>
            <a:off x="500040" y="2143080"/>
            <a:ext cx="5759640" cy="493920"/>
          </a:xfrm>
          <a:prstGeom prst="rect">
            <a:avLst/>
          </a:prstGeom>
          <a:ln w="0">
            <a:noFill/>
          </a:ln>
        </p:spPr>
      </p:pic>
      <p:sp>
        <p:nvSpPr>
          <p:cNvPr id="420" name="Wolkenförmige Legende 95"/>
          <p:cNvSpPr/>
          <p:nvPr/>
        </p:nvSpPr>
        <p:spPr>
          <a:xfrm>
            <a:off x="4929120" y="1714680"/>
            <a:ext cx="4214880" cy="928440"/>
          </a:xfrm>
          <a:prstGeom prst="cloudCallout">
            <a:avLst>
              <a:gd name="adj1" fmla="val -68138"/>
              <a:gd name="adj2" fmla="val 18740"/>
            </a:avLst>
          </a:prstGeom>
          <a:solidFill>
            <a:srgbClr val="2da2bf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Object 87" descr=""/>
          <p:cNvPicPr/>
          <p:nvPr/>
        </p:nvPicPr>
        <p:blipFill>
          <a:blip r:embed="rId8"/>
          <a:stretch/>
        </p:blipFill>
        <p:spPr>
          <a:xfrm>
            <a:off x="5429160" y="1928880"/>
            <a:ext cx="5759640" cy="584280"/>
          </a:xfrm>
          <a:prstGeom prst="rect">
            <a:avLst/>
          </a:prstGeom>
          <a:ln w="0">
            <a:noFill/>
          </a:ln>
        </p:spPr>
      </p:pic>
      <p:sp>
        <p:nvSpPr>
          <p:cNvPr id="422" name="Textfeld 96"/>
          <p:cNvSpPr/>
          <p:nvPr/>
        </p:nvSpPr>
        <p:spPr>
          <a:xfrm>
            <a:off x="1214280" y="257184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00000"/>
                </a:solidFill>
                <a:latin typeface="Comic Sans MS"/>
              </a:rPr>
              <a:t>Es gelten Folgende Zusammenhäng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Grafik 44" descr="Merke.png"/>
          <p:cNvPicPr/>
          <p:nvPr/>
        </p:nvPicPr>
        <p:blipFill>
          <a:blip r:embed="rId9"/>
          <a:stretch/>
        </p:blipFill>
        <p:spPr>
          <a:xfrm>
            <a:off x="571680" y="2286000"/>
            <a:ext cx="788760" cy="88596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46" descr="Birne.png"/>
          <p:cNvPicPr/>
          <p:nvPr/>
        </p:nvPicPr>
        <p:blipFill>
          <a:blip r:embed="rId10"/>
          <a:stretch/>
        </p:blipFill>
        <p:spPr>
          <a:xfrm>
            <a:off x="785880" y="714240"/>
            <a:ext cx="398520" cy="66996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88" descr=""/>
          <p:cNvPicPr/>
          <p:nvPr/>
        </p:nvPicPr>
        <p:blipFill>
          <a:blip r:embed="rId11"/>
          <a:stretch/>
        </p:blipFill>
        <p:spPr>
          <a:xfrm>
            <a:off x="1571760" y="3143160"/>
            <a:ext cx="12052080" cy="863640"/>
          </a:xfrm>
          <a:prstGeom prst="rect">
            <a:avLst/>
          </a:prstGeom>
          <a:ln w="0">
            <a:noFill/>
          </a:ln>
        </p:spPr>
      </p:pic>
      <p:pic>
        <p:nvPicPr>
          <p:cNvPr id="426" name="Object 91" descr=""/>
          <p:cNvPicPr/>
          <p:nvPr/>
        </p:nvPicPr>
        <p:blipFill>
          <a:blip r:embed="rId12"/>
          <a:stretch/>
        </p:blipFill>
        <p:spPr>
          <a:xfrm>
            <a:off x="785880" y="4071960"/>
            <a:ext cx="1135836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Grafik 57" descr="Formelsammlung.png"/>
          <p:cNvPicPr/>
          <p:nvPr/>
        </p:nvPicPr>
        <p:blipFill>
          <a:blip r:embed="rId13"/>
          <a:stretch/>
        </p:blipFill>
        <p:spPr>
          <a:xfrm>
            <a:off x="8429760" y="5780160"/>
            <a:ext cx="7142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feld 3"/>
          <p:cNvSpPr/>
          <p:nvPr/>
        </p:nvSpPr>
        <p:spPr>
          <a:xfrm>
            <a:off x="285840" y="5072040"/>
            <a:ext cx="514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000"/>
                </a:solidFill>
                <a:latin typeface="Comic Sans MS"/>
              </a:rPr>
              <a:t>Potenz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omic Sans MS"/>
              </a:rPr>
              <a:t>Zusammenhänge mit Wurzel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000"/>
                </a:solidFill>
                <a:latin typeface="Comic Sans MS"/>
              </a:rPr>
              <a:t>Potenzgesetz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Potenzfunktionen und ihre Eigenschaft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Abbilden von Funktionsgraph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feld 4"/>
          <p:cNvSpPr/>
          <p:nvPr/>
        </p:nvSpPr>
        <p:spPr>
          <a:xfrm>
            <a:off x="428760" y="21420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Um mit Potenzen rechnen zu können musst du die Potenzgesetze kennen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Rectangle 23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Rectangle 24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Rectangle 3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Rectangle 32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Rectangle 33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Rectangle 34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Rectangle 42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Rectangle 43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Rectangle 44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Rectangle 45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Rectangle 46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Rectangle 53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Rectangle 54"/>
          <p:cNvSpPr/>
          <p:nvPr/>
        </p:nvSpPr>
        <p:spPr>
          <a:xfrm>
            <a:off x="4481640" y="21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Rectangle 55"/>
          <p:cNvSpPr/>
          <p:nvPr/>
        </p:nvSpPr>
        <p:spPr>
          <a:xfrm>
            <a:off x="4481640" y="40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56"/>
          <p:cNvSpPr/>
          <p:nvPr/>
        </p:nvSpPr>
        <p:spPr>
          <a:xfrm>
            <a:off x="4481640" y="74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Rectangle 57"/>
          <p:cNvSpPr/>
          <p:nvPr/>
        </p:nvSpPr>
        <p:spPr>
          <a:xfrm>
            <a:off x="4481640" y="9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Rectangle 61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Picture 66" descr=""/>
          <p:cNvPicPr/>
          <p:nvPr/>
        </p:nvPicPr>
        <p:blipFill>
          <a:blip r:embed="rId2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Picture 70" descr=""/>
          <p:cNvPicPr/>
          <p:nvPr/>
        </p:nvPicPr>
        <p:blipFill>
          <a:blip r:embed="rId3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7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Picture 72" descr=""/>
          <p:cNvPicPr/>
          <p:nvPr/>
        </p:nvPicPr>
        <p:blipFill>
          <a:blip r:embed="rId4"/>
          <a:stretch/>
        </p:blipFill>
        <p:spPr>
          <a:xfrm>
            <a:off x="0" y="0"/>
            <a:ext cx="457200" cy="200160"/>
          </a:xfrm>
          <a:prstGeom prst="rect">
            <a:avLst/>
          </a:prstGeom>
          <a:ln w="0">
            <a:noFill/>
          </a:ln>
        </p:spPr>
      </p:pic>
      <p:pic>
        <p:nvPicPr>
          <p:cNvPr id="462" name="Grafik 44" descr="Merke.png"/>
          <p:cNvPicPr/>
          <p:nvPr/>
        </p:nvPicPr>
        <p:blipFill>
          <a:blip r:embed="rId5"/>
          <a:stretch/>
        </p:blipFill>
        <p:spPr>
          <a:xfrm>
            <a:off x="357120" y="571680"/>
            <a:ext cx="789120" cy="885600"/>
          </a:xfrm>
          <a:prstGeom prst="rect">
            <a:avLst/>
          </a:prstGeom>
          <a:ln w="0">
            <a:noFill/>
          </a:ln>
        </p:spPr>
      </p:pic>
      <p:sp>
        <p:nvSpPr>
          <p:cNvPr id="463" name="Diagonal liegende Ecken des Rechtecks schneiden 48"/>
          <p:cNvSpPr/>
          <p:nvPr/>
        </p:nvSpPr>
        <p:spPr>
          <a:xfrm>
            <a:off x="1000080" y="857160"/>
            <a:ext cx="3214800" cy="3929040"/>
          </a:xfrm>
          <a:custGeom>
            <a:avLst/>
            <a:gdLst>
              <a:gd name="textAreaLeft" fmla="*/ 127440 w 3214800"/>
              <a:gd name="textAreaRight" fmla="*/ 3087360 w 3214800"/>
              <a:gd name="textAreaTop" fmla="*/ 127440 h 3929040"/>
              <a:gd name="textAreaBottom" fmla="*/ 3801600 h 3929040"/>
            </a:gdLst>
            <a:ahLst/>
            <a:rect l="textAreaLeft" t="textAreaTop" r="textAreaRight" b="textAreaBottom"/>
            <a:pathLst>
              <a:path w="3214710" h="3929090">
                <a:moveTo>
                  <a:pt x="207831" y="0"/>
                </a:moveTo>
                <a:lnTo>
                  <a:pt x="2959462" y="0"/>
                </a:lnTo>
                <a:lnTo>
                  <a:pt x="3214710" y="255248"/>
                </a:lnTo>
                <a:lnTo>
                  <a:pt x="3214710" y="3721259"/>
                </a:lnTo>
                <a:lnTo>
                  <a:pt x="3006879" y="3929090"/>
                </a:lnTo>
                <a:lnTo>
                  <a:pt x="255248" y="3929090"/>
                </a:lnTo>
                <a:lnTo>
                  <a:pt x="0" y="3673842"/>
                </a:lnTo>
                <a:lnTo>
                  <a:pt x="0" y="207831"/>
                </a:lnTo>
                <a:close/>
              </a:path>
            </a:pathLst>
          </a:custGeom>
          <a:solidFill>
            <a:srgbClr val="ff0000">
              <a:alpha val="45000"/>
            </a:srgbClr>
          </a:solidFill>
          <a:ln w="55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Object 9" descr=""/>
          <p:cNvPicPr/>
          <p:nvPr/>
        </p:nvPicPr>
        <p:blipFill>
          <a:blip r:embed="rId6"/>
          <a:stretch/>
        </p:blipFill>
        <p:spPr>
          <a:xfrm>
            <a:off x="1143000" y="857160"/>
            <a:ext cx="12052440" cy="45338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53" descr="Formelsammlung.png"/>
          <p:cNvPicPr/>
          <p:nvPr/>
        </p:nvPicPr>
        <p:blipFill>
          <a:blip r:embed="rId7"/>
          <a:stretch/>
        </p:blipFill>
        <p:spPr>
          <a:xfrm>
            <a:off x="8429760" y="5780160"/>
            <a:ext cx="714240" cy="1077840"/>
          </a:xfrm>
          <a:prstGeom prst="rect">
            <a:avLst/>
          </a:prstGeom>
          <a:ln w="0">
            <a:noFill/>
          </a:ln>
        </p:spPr>
      </p:pic>
      <p:sp>
        <p:nvSpPr>
          <p:cNvPr id="466" name="Wolkenförmige Legende 55"/>
          <p:cNvSpPr/>
          <p:nvPr/>
        </p:nvSpPr>
        <p:spPr>
          <a:xfrm>
            <a:off x="6072120" y="1571760"/>
            <a:ext cx="1285920" cy="785520"/>
          </a:xfrm>
          <a:prstGeom prst="cloudCallout">
            <a:avLst>
              <a:gd name="adj1" fmla="val -72425"/>
              <a:gd name="adj2" fmla="val -48268"/>
            </a:avLst>
          </a:prstGeom>
          <a:solidFill>
            <a:srgbClr val="2da2bf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Object 11" descr=""/>
          <p:cNvPicPr/>
          <p:nvPr/>
        </p:nvPicPr>
        <p:blipFill>
          <a:blip r:embed="rId8"/>
          <a:stretch/>
        </p:blipFill>
        <p:spPr>
          <a:xfrm>
            <a:off x="4357800" y="1214280"/>
            <a:ext cx="5753160" cy="1054080"/>
          </a:xfrm>
          <a:prstGeom prst="rect">
            <a:avLst/>
          </a:prstGeom>
          <a:ln w="0">
            <a:noFill/>
          </a:ln>
        </p:spPr>
      </p:pic>
      <p:sp>
        <p:nvSpPr>
          <p:cNvPr id="468" name="Wolkenförmige Legende 58"/>
          <p:cNvSpPr/>
          <p:nvPr/>
        </p:nvSpPr>
        <p:spPr>
          <a:xfrm>
            <a:off x="4286160" y="3143160"/>
            <a:ext cx="4857840" cy="1500120"/>
          </a:xfrm>
          <a:prstGeom prst="cloudCallout">
            <a:avLst>
              <a:gd name="adj1" fmla="val -46171"/>
              <a:gd name="adj2" fmla="val -40648"/>
            </a:avLst>
          </a:prstGeom>
          <a:solidFill>
            <a:srgbClr val="2da2bf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Object 12" descr=""/>
          <p:cNvPicPr/>
          <p:nvPr/>
        </p:nvPicPr>
        <p:blipFill>
          <a:blip r:embed="rId9"/>
          <a:stretch/>
        </p:blipFill>
        <p:spPr>
          <a:xfrm>
            <a:off x="4292640" y="2577960"/>
            <a:ext cx="5753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7:40:26Z</dcterms:created>
  <dc:creator>Peter</dc:creator>
  <dc:description/>
  <dc:language>en-US</dc:language>
  <cp:lastModifiedBy>Peter</cp:lastModifiedBy>
  <dcterms:modified xsi:type="dcterms:W3CDTF">2010-05-20T15:15:38Z</dcterms:modified>
  <cp:revision>87</cp:revision>
  <dc:subject/>
  <dc:title>Folie 1</dc:title>
</cp:coreProperties>
</file>